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016-32F2-4243-9929-903D0491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8CD-2173-4743-AB29-E477E534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F82-2B55-4913-ACDE-17512908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A35-0660-4FF3-BA32-3D447403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991-038A-484C-A923-4540D1AA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C11-CE71-4B98-B610-0022E94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5C9-99C1-4C9C-94C4-9169E85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62D-7D7C-4C58-8F5F-E4BDA8DF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E2-1543-41C6-9373-AF9A4BF1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C77-5002-4997-8994-A68D76D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4A3-B63A-4BCC-8614-739D6DED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FAC-0B13-430C-964A-624D2E3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7E3-F4CA-4BD7-9828-4B84D6E10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ycling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kety Bl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re are __________ players in a basketball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cano wrote a song about the painter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said “I think, therefore I a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capital of Honduras i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7 dwarves were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c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6127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Alfred Hitchcock won _________ os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Queen Elizabeth has got __________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Ann Boleyn had __________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There are __________ dots on two d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________ months have got 31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C in roman numerals represents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341360"/>
          <a:ext cx="6840360" cy="4751640"/>
        </p:xfrm>
        <a:graphic>
          <a:graphicData uri="http://schemas.openxmlformats.org/drawingml/2006/table">
            <a:tbl>
              <a:tblPr/>
              <a:tblGrid>
                <a:gridCol w="1584360"/>
                <a:gridCol w="1871640"/>
                <a:gridCol w="1728720"/>
                <a:gridCol w="1655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a la 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s a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 num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t the 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hinese Whis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te…….getting up before 8.45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love………….drinking my first cup of tea in the morning on the ter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remember…………travelling by plane for the firs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try to………….be jolly at all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need to………….stop worrying about my next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3:34Z</dcterms:created>
  <dc:creator>HBeardsworth</dc:creator>
  <dc:description/>
  <dc:language>en-US</dc:language>
  <cp:lastModifiedBy>HBeardsworth</cp:lastModifiedBy>
  <dcterms:modified xsi:type="dcterms:W3CDTF">2011-05-24T10:46:52Z</dcterms:modified>
  <cp:revision>3</cp:revision>
  <dc:subject/>
  <dc:title>Recycling Games</dc:title>
</cp:coreProperties>
</file>